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E45BDB-203A-4E52-9BB0-E7934F4D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5DD855-F962-41E8-BC8C-F6425281C6E2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228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27A2D1-8ABC-4CCF-AF51-1EB0A87BB0E5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CA4D09-7983-4C6A-BA7B-4E86C29125D1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354AAF-7D57-42A4-93B4-9DE41085F6AF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969635-F92A-4D7B-A27F-2F8D7E017A26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9E8E04-6153-497D-9BC5-A43CD875772C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6640" y="4379400"/>
            <a:ext cx="507996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07FB73-DF35-42BA-A381-E10C96DAD716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2A84E4-6AF9-4CFB-8FE5-C1FEEFB550C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917CEF-48E0-4DA7-ACB2-E24906FB5741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4E568D-469C-451B-B4AF-93D044D7602B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468A17-6825-44B8-BC75-EE4E190BA7D7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7255C6-0518-401D-B074-33AC28978F38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B74181-8BAF-4A4F-B9A5-F6E2F2ED85CC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C4AD52-47B8-4CA2-B57E-9A85A534B9F4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23A-B553-4905-B2DB-EB75BA4B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645-A726-4D8A-B803-F580CA45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C7A-A7D0-44C8-BB79-3177FDF1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8A2-F241-42C5-8ACA-3E45707A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3266-DCB7-43B0-9388-51F946CF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E701-FF3D-49E8-A49A-2ED126C5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25E-42EA-41A9-92F4-28227111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C2DA-2295-4846-B8AA-780805A5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DCCF-81FA-4537-87F9-7806755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AA39-9415-4D2E-9D85-EA7C4FC2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0C48-A6AB-4016-A815-8C0AD69D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BF2-23C1-4ACA-9DC1-1756AE5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EA80-A704-4014-A4AE-9FA4D7F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EAE5-C5C8-416E-B376-CAA5EBC8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3F80-F284-47AB-9319-61681E50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6ED0-616E-44C1-9558-FBB3766C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DD5E-CB57-4D3F-BE2C-1ADACC3D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961-7F05-41C8-B733-E7B915E4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20C-8434-4312-B4B1-E0A57BEF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483-E251-4D78-AC81-3C5E1498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449-A85E-4E44-831D-24EB59D6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A35-F36F-4600-8EA8-68FF994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EC8-3D2F-4AA1-9108-8EC96F66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372-F055-4724-A223-73E551A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5306-0548-4C11-AC8C-25390CEAD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C7CA-1937-4DCE-8053-710BC4F4A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472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53352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Developing a Strong Resilient Child: 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Key Successful Step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3520" y="289548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Juan Carlos Araque, Ph.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6B7-F1BB-4339-86AD-A1E9A301E6C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475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udies have associated Commitment-to-Learning assets directly or indirectly with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creased high school comple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creased enrollment in colle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er grad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er achievement test sc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tter attenda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s sexual intercourse and childbear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s drug u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ewer conduct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cademic Achievement and Asset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18E8-FEA0-4D54-9C5C-FAE4A5E945A1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From . . .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	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	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	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To . . .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’s problem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’s strength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Professional’s wor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Everyone’s 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 absorb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resources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resour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Troubled young peop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All young peopl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Accountable only for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Accountable as well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own behavio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ther adults’ behavi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Incidental asset build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Intentional asset build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Blaming ot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Claiming responsi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sset-Building Differenc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65E8-919E-4EE3-BCC0-787ED746AE6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057400" y="21337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6080"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 Unicode MS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nerate awarenes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ess resources, students’ asset levels,   and current asset-building activit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oritize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m relationships that build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eate an asset-rich environ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 programs and practices to build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stain asset build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2880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a leadership team that will begin to shape a vision and formulate a pla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sset-Building Proces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9C1E-FED8-440E-97FA-64B05DC0B74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05120" y="20570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ff in hallway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ors ope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 staff and volunteers train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all friendliness the no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ets pos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udents involved in building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ets part of evaluation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hysical environment warm and invit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reating an Asset-Rich Environmen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5DFF-EB6B-46D5-8D23-003B1C95F1A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957320" y="2066760"/>
            <a:ext cx="6392880" cy="40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800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oking at your schools programs, which developmental assets are you already building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ch assets does your school and/or programs already promoting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w can I use these programs and practices mor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entionally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 build assets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Thinking on Your Current Progr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nd Practices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E3FD-D1D6-401E-BA00-773884FA68A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Results from the two-year developmental asset project in La Habra, Orange County</a:t>
            </a:r>
            <a:br>
              <a:rPr sz="2800"/>
            </a:br>
            <a:br>
              <a:rPr sz="3600"/>
            </a:b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99840" y="51055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PI STUDY: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CADEMICS AND PREVENTION INSEPARABLE REPORT AVAILABLE IN PDF FORMAT AT: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ww.ocde.us/assetbuild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E222-8ACB-4D9A-BAA6-97C6FC3A1E1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cademic Performance Index Score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Experimental:  Elementary + 66 points        Control:  Elementary - 17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Middle + 23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             Middle +16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752480" y="2286000"/>
          <a:ext cx="7086600" cy="422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86000"/>
                    <a:ext cx="708660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138D-B866-4650-83C5-4E2A7ADB701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Youth Development Framework Review  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2240" y="1828440"/>
            <a:ext cx="778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ilot program 2000-2002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ange County Health Care Age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ange County Department of Edu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 Habra City School Distri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ity of La Habr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 Habra Resource Cen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 Habra Chamber of Commer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outh development defined by Karen Pittman (1990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Youth development is the ongoing process in which young people are engaged in building the skills, attitudes, knowledge, and experiences that prepare them for the present and the future”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FCCC-D39C-4470-A8DD-4980258496B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920" y="3123720"/>
            <a:ext cx="579096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SESSMEN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DA86-0780-4AA8-989F-C36A95614BC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rea of Implement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 1999, the FBI identified the area of implementation as the most violent city in Orange County with 9.2 violent crimes per 1,000 people.  There were 127 juvenile arrests of which 64% were drug related and 20% gang related crim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F6E-6DC4-4DF0-80E2-1E6ABA10EC3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Content Placeholder 5" descr="Lakers kids.JPG"/>
          <p:cNvPicPr/>
          <p:nvPr/>
        </p:nvPicPr>
        <p:blipFill>
          <a:blip r:embed="rId2"/>
          <a:stretch/>
        </p:blipFill>
        <p:spPr>
          <a:xfrm>
            <a:off x="1676520" y="6858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24BA-5C8F-4F4E-8DC0-A5B75318324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762120"/>
            <a:ext cx="6805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Participating Scho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Demographic Composi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xperimental Grou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WO schools: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elementa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middle schoo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span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7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24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ia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lack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glish Learners     78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49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ntrol Grou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WO schools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elementa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middle schoo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span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ia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lack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glish Learners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B6B3-774A-4E9D-9E11-A4325674E2E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re-tests (survey, focus groups, and interview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udents 1,500 (experimental and contro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wo student cohort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achers 300 (all participating school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ents (PTA representatives in two school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unity members (city officials and community-based organization representative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59B1-F1C2-4D4D-B692-40A11FFA14E7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920" y="3131640"/>
            <a:ext cx="533376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Unicode MS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OAL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A180-05B7-4A67-B31E-C43754C9EC3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737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ttended the youth development conference in the Summer of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med the Core Team: Students, educators and community members to lead proje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ablished ongoing teacher training opportunities: Meeting teacher nee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roduced the video production class (electiv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ed on parent involvement: Reading, math, conflict resolution, and pa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hadow day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CE84-D64F-42DC-9F28-54485942AC21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3520" y="2889360"/>
            <a:ext cx="681660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Unicode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SEARCHED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Programs and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Promising Practice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FFE2-4D1A-48DE-8DA4-66EC2AAAB8C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Youth Development Model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5228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814400" indent="0">
              <a:spcBef>
                <a:spcPts val="601"/>
              </a:spcBef>
              <a:buNone/>
              <a:tabLst>
                <a:tab algn="l" pos="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ltiple theories of frameworks defining youth development have surfaced over the last decade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814400" indent="0">
              <a:spcBef>
                <a:spcPts val="601"/>
              </a:spcBef>
              <a:buNone/>
              <a:tabLst>
                <a:tab algn="l" pos="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includ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upports and Opportunit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Youth Competencies and Need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Resilienc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tegrated Approach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Unicode MS"/>
              </a:rPr>
              <a:t>Developmental Asse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5562720" y="3328920"/>
            <a:ext cx="3429000" cy="2691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plit dir="in" orient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089-0648-4649-A87D-E1220EB4D27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Promising Practices Alignment with Asset-Building Framework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Youth and adults in the school site voted to implement the following asset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rvice to Others - Asset #9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outh Programs - Asset #18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chievement Motivation - Asset #21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ding for Pleasure - Asset #2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aceful Conflict Resolution - Asset #36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BB2D-2EE5-4532-A62B-1A5D1D62777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sset # 9: Service to Other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518080" y="2444760"/>
            <a:ext cx="324504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adership and community service projec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ach classroom completed at least one project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1650960" y="2209680"/>
            <a:ext cx="3835440" cy="2876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0" name="Rectangle 5"/>
          <p:cNvSpPr/>
          <p:nvPr/>
        </p:nvSpPr>
        <p:spPr>
          <a:xfrm>
            <a:off x="4335480" y="179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52480" y="499896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y parents have adult conversations with me, they don’t talk to me like I am a little kid.” - Studen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FE3F-01D5-436B-B9BA-9EE17BC6859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sset # 18: Youth Program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unch Bun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lti-media curriculu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DF Newslet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ddle school student-led parent conferen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oices of change ev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ent shadow da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oss-age mentoring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52680" cy="2514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6" name="Text Box 5"/>
          <p:cNvSpPr/>
          <p:nvPr/>
        </p:nvSpPr>
        <p:spPr>
          <a:xfrm>
            <a:off x="7086600" y="2128680"/>
            <a:ext cx="17524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[I am] self-motivated to get homework, [YDF] taught me responsibility”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 Stud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410080" y="1523880"/>
            <a:ext cx="17528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YDF agenda has put parents and teachers on the same page”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Par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3AA9-93CB-4864-BA77-4B6D8E9BB92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sset # 21: Achievement Motiv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2520" y="266688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visible mentor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going teacher trai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ideo production cla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sic conte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600200" y="487692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students love YDF. It gives them a safe and productive environment.” -Teacher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523880" y="2286000"/>
            <a:ext cx="3429000" cy="2571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9116-4AD7-4653-A653-B0727FC19CC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99840" y="1752480"/>
            <a:ext cx="71629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view the research on positive youth development and resiliency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ine the relationship between developmental assets, academic achievement, and prevention of high-risk behavio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dentify practical strategies for increasing developmental assets with young people and staf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gin developing a school-wide and/or community-wide plan to initiate the implementation of asset building to increase academic achieve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133360" y="533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728F-406E-4954-B620-93F40F69AE6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Asset # 25: Reading for Pleasure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ddle school reading progra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lementary school-wide reading progra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ding and mathematics evening workshop for students and par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562720" y="312408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DF gave me a feeling that teachers had more trust in me.” - Studen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3504960" cy="2743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AD60-66B3-4271-BAA8-EAA337FDBDC7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A.P.I. Study: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Five findings are statistically significant (p &lt; .05)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udents in the control group showed: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decrease in commitment to learn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udents in the experimental group showed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gnificant increase in their test scores and commitment to learn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nection with teachers, school, and commun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eater feeling of safety in scho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eachers’ attitude toward their work environment and level of involvement with youth showed improvement when promoting a positive “school culture” and empowering students at their scho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370A-53C3-4A32-8EDB-B218D5953BC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Key Finding for Elementary Student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1295280" y="2743200"/>
          <a:ext cx="7848720" cy="37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743200"/>
                    <a:ext cx="78487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4"/>
          <p:cNvSpPr/>
          <p:nvPr/>
        </p:nvSpPr>
        <p:spPr>
          <a:xfrm>
            <a:off x="1676520" y="160020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test show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out of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uden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ke to learn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test show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 out of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udent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like to learn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increase of almost 30% from pre to post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6C96-CB0F-4B28-8529-DC9AB170561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Elementary School Evalu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1600200" y="1816200"/>
          <a:ext cx="7543800" cy="45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816200"/>
                    <a:ext cx="75438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014F-32C9-4020-84D3-8D006F05CEA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Elementary School Evalu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1905120" y="1844640"/>
          <a:ext cx="7162560" cy="467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44640"/>
                    <a:ext cx="716256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B58C-332D-444B-AD5C-52346AB1C79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MI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story, management, attitud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 expect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ienation, friends, attitudes, early first u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H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licy, availability, labeling, moving, failure, involvement, trua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verty, involvement, availability, nor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057400" y="4572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isk Factor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2819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What was there for you?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DA70-CCD4-4A28-A6C0-88C2EA4ED85A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tegorie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Developmental Asset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82800" y="2065320"/>
            <a:ext cx="314784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XTERNAL ASSET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oundaries and Expect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tructive Use of Ti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46600" y="1989000"/>
            <a:ext cx="30196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INTERNAL ASSET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itment to Lear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sitive Valu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cial Competenc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sitive Ident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8AE8-9054-401F-BFC7-3A9112FBD87D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1371600" y="19051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051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4"/>
          <p:cNvSpPr/>
          <p:nvPr/>
        </p:nvSpPr>
        <p:spPr>
          <a:xfrm>
            <a:off x="19051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High Risk Behavior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5B30-4825-4B30-8F06-4B2DC203B23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576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Positive Outcomes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1676520" y="1523880"/>
          <a:ext cx="7238880" cy="434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3880"/>
                    <a:ext cx="723888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1A0E-F757-4F69-85BA-8E45A0C02F6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514600" y="5486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Black"/>
              </a:rPr>
              <a:t>(Percentage of youth with each level of assets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538280" y="1295280"/>
          <a:ext cx="6919920" cy="437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1295280"/>
                    <a:ext cx="69199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Gap in Assets Among Youth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22:11:55Z</dcterms:created>
  <dc:creator>Kelly Foley</dc:creator>
  <dc:description/>
  <cp:keywords/>
  <dc:language>en-US</dc:language>
  <cp:lastModifiedBy>John Doe</cp:lastModifiedBy>
  <dcterms:modified xsi:type="dcterms:W3CDTF">2011-05-10T05:12:40Z</dcterms:modified>
  <cp:revision>58</cp:revision>
  <dc:subject/>
  <dc:title>Welcome to  A.P.I. Study: Academics and Prevention Inseparable     Presented by  Juan Carlos Araque, Youth Development Coordinator    2004 Hawaii International Conference on Education Saturday, January 3, 2004  Orange County Department of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